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8.png" ContentType="image/png"/>
  <Override PartName="/ppt/media/image12.png" ContentType="image/png"/>
  <Override PartName="/ppt/media/image7.wmf" ContentType="image/x-wmf"/>
  <Override PartName="/ppt/media/image37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6213600"/>
            <a:ext cx="8686800" cy="748800"/>
            <a:chOff x="0" y="6213600"/>
            <a:chExt cx="8686800" cy="748800"/>
          </a:xfrm>
        </p:grpSpPr>
        <p:grpSp>
          <p:nvGrpSpPr>
            <p:cNvPr id="3" name=""/>
            <p:cNvGrpSpPr/>
            <p:nvPr/>
          </p:nvGrpSpPr>
          <p:grpSpPr>
            <a:xfrm>
              <a:off x="3429000" y="6408720"/>
              <a:ext cx="2800080" cy="449280"/>
              <a:chOff x="3429000" y="6408720"/>
              <a:chExt cx="2800080" cy="449280"/>
            </a:xfrm>
          </p:grpSpPr>
          <p:pic>
            <p:nvPicPr>
              <p:cNvPr id="4" name="logo_nuclio_OFICIAL" descr=""/>
              <p:cNvPicPr/>
              <p:nvPr/>
            </p:nvPicPr>
            <p:blipFill>
              <a:blip r:embed="rId2"/>
              <a:stretch/>
            </p:blipFill>
            <p:spPr>
              <a:xfrm>
                <a:off x="4647960" y="6408720"/>
                <a:ext cx="1581120" cy="44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"/>
              <p:cNvSpPr/>
              <p:nvPr/>
            </p:nvSpPr>
            <p:spPr>
              <a:xfrm>
                <a:off x="3429000" y="6473880"/>
                <a:ext cx="1371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99"/>
                    </a:solidFill>
                    <a:latin typeface="Tahoma"/>
                  </a:rPr>
                  <a:t>Traduzido por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0" y="6213600"/>
              <a:ext cx="2035080" cy="748800"/>
              <a:chOff x="0" y="6213600"/>
              <a:chExt cx="2035080" cy="748800"/>
            </a:xfrm>
          </p:grpSpPr>
          <p:pic>
            <p:nvPicPr>
              <p:cNvPr id="7" name="nasa_logo" descr=""/>
              <p:cNvPicPr/>
              <p:nvPr/>
            </p:nvPicPr>
            <p:blipFill>
              <a:blip r:embed="rId3"/>
              <a:stretch/>
            </p:blipFill>
            <p:spPr>
              <a:xfrm>
                <a:off x="1295280" y="6213600"/>
                <a:ext cx="739800" cy="64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>
                <a:off x="0" y="6442200"/>
                <a:ext cx="1295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400" spc="-1" strike="noStrike">
                    <a:solidFill>
                      <a:srgbClr val="000099"/>
                    </a:solidFill>
                    <a:latin typeface="Tahoma"/>
                  </a:rPr>
                  <a:t>Produzido p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981080" y="6438960"/>
              <a:ext cx="13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99"/>
                  </a:solidFill>
                  <a:latin typeface="Tahoma"/>
                </a:rPr>
                <a:t>www.nasa.go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48520" y="6438960"/>
              <a:ext cx="2438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400" spc="-1" strike="noStrike">
                  <a:solidFill>
                    <a:srgbClr val="000099"/>
                  </a:solidFill>
                  <a:latin typeface="Tahoma"/>
                </a:rPr>
                <a:t>www.portaldoastronomo.or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image" Target="../media/image7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image" Target="../media/image7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image" Target="../media/image7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7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5.png"/><Relationship Id="rId3" Type="http://schemas.openxmlformats.org/officeDocument/2006/relationships/image" Target="../media/image7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png"/><Relationship Id="rId3" Type="http://schemas.openxmlformats.org/officeDocument/2006/relationships/image" Target="../media/image2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7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7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2563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99"/>
                </a:solidFill>
                <a:latin typeface="Tahoma"/>
              </a:rPr>
              <a:t>Cassini-Huyg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99"/>
                </a:solidFill>
                <a:latin typeface="Tahoma"/>
              </a:rPr>
              <a:t>Missão ao Sistema de Satu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57800" y="4114800"/>
            <a:ext cx="327672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982404"/>
                </a:solidFill>
                <a:latin typeface="Tahoma"/>
              </a:rPr>
              <a:t>“</a:t>
            </a:r>
            <a:r>
              <a:rPr b="0" lang="pt-PT" sz="3600" spc="-1" strike="noStrike">
                <a:solidFill>
                  <a:srgbClr val="982404"/>
                </a:solidFill>
                <a:latin typeface="Tahoma"/>
              </a:rPr>
              <a:t>Mapa de Estradas” de Satur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-14400" y="1752480"/>
            <a:ext cx="9192240" cy="40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A ordem dos anéis e das luas, começando pelo mais próximo de Saturno, 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Saturno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Epimeteu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Tit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Anel D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Jano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Hiperi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Anel C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Anel G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Jáp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Anel B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Mimas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Fe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Divisão de Cassini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Anel E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Novos Satél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Anel A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Ence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Divisão de Encke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Té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Pã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Tel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Atlas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Calip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Prometeu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D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Pandora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Hel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Anel F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Re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143000" y="2285640"/>
            <a:ext cx="1752480" cy="342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638680" y="3733920"/>
            <a:ext cx="3273480" cy="2425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8534160" cy="76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841320" cy="12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086600" y="380880"/>
            <a:ext cx="1625760" cy="673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3886200" y="2285640"/>
            <a:ext cx="1752480" cy="342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982404"/>
                </a:solidFill>
                <a:latin typeface="Tahoma"/>
              </a:rPr>
              <a:t>Atmosfera de Satur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9680" y="1981080"/>
            <a:ext cx="896436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Os conteúdos primários da atmosfera de Saturno sã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Hidrogénio (94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Hélio (6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Além destes, existem traços de amónia, metano, etano, fosfina, acetilen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metilacetileno e prop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99"/>
                </a:solidFill>
                <a:latin typeface="Tahoma"/>
              </a:rPr>
              <a:t>Sab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O que produz aquelas bandas dou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coloridas na alta atmosfera de Saturn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       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--- Cristais gelados de Amó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257800" y="3505320"/>
            <a:ext cx="3578400" cy="2652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8534160" cy="76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841320" cy="1285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7086600" y="380880"/>
            <a:ext cx="162576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093000" y="3890880"/>
            <a:ext cx="2974680" cy="2205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982404"/>
                </a:solidFill>
                <a:latin typeface="Tahoma"/>
              </a:rPr>
              <a:t>Fortes Ventos de Satur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8534160" cy="76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04920" y="189720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Saturno possui os segundos ventos mais rápidos que alguma vez se mediram em todo o Sistema Solar. Apenas Neptuno possui ventos mais rápidos. As velocidades do vento a latitudes semelhantes a Norte e a Sul do Equador são quase igu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Velocidades equatoriais: sopram para Leste a 500 metros/segundo (1.800 km/hor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3733920"/>
            <a:ext cx="5943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99"/>
                </a:solidFill>
                <a:latin typeface="Tahoma"/>
              </a:rPr>
              <a:t>Que velocidade é ess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Um avião a jacto voa a uma velocidade de cruzeiro de cerca de 900 km/hor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Os ventos mais rápidos de um furacão (ciclone) atingem os 350 km/hor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Uma onda gigante (tsunami) viaja através do mar aberto a uma velocidade de 900 km/hor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A velocidade do som é de 1.224 km/h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841320" cy="1285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7086600" y="380880"/>
            <a:ext cx="1625760" cy="673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238880" y="574056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ffffff"/>
                </a:solidFill>
                <a:latin typeface="Times New Roman"/>
              </a:rPr>
              <a:t>Milhas por ho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6332400" y="473076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ffffff"/>
                </a:solidFill>
                <a:latin typeface="Times New Roman"/>
              </a:rPr>
              <a:t>Latitu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982404"/>
                </a:solidFill>
                <a:latin typeface="Tahoma"/>
              </a:rPr>
              <a:t>Objectivos Científicos em Tit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7440" y="1752480"/>
            <a:ext cx="8621640" cy="15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Objectivos científicos em Titã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a) Determinar a abundância de constituintes atmosféricos (incluindo os gases nobres), estabelecendo a proporção de isótopos para os elementos abundantes, constranger cenários da formação e evolução de Titã e da sua atmosfe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76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41320" cy="1285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7086600" y="304920"/>
            <a:ext cx="1625760" cy="672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413320" y="3276720"/>
            <a:ext cx="3654360" cy="2708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2280" y="4859280"/>
            <a:ext cx="510552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c) Medir os ventos e as temperaturas globais, investigar a física das nuvens, a circulação geral e os efeitos sazonais na atmosfera de Titã; pesquisar a existência de descargas eléctricas do tipo trovoa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2971800"/>
            <a:ext cx="5105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b) Observar as distribuições vertical e horizontal de traços gasosos, procurar moléculas orgânicas mais complexas, investigar fontes de energia para a química atmosférica, modelar a fotoquímica da estratosfera e estudar a formação e composição dos aerossói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982404"/>
                </a:solidFill>
                <a:latin typeface="Tahoma"/>
              </a:rPr>
              <a:t>Factos Físicos de Tit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763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-43920" y="1676520"/>
            <a:ext cx="844596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Titã possui uma fina atmosfera principalmente constituída por Azo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Azoto ~ 9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Metano ~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Traços de hidrocarbonetos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ácido cianíd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Distância a Saturno = 1.222.000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Período Orbital = 15,94 d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Diâmetro = 5.150 k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40% do diâmetro da T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Temperatura à Superfície = 95 Kelv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(-178° Celsi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5257800"/>
            <a:ext cx="44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99"/>
                </a:solidFill>
                <a:latin typeface="Tahoma"/>
              </a:rPr>
              <a:t>Sab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Titã tem um diâmetro superior ao de Mercúrio ou de Plut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41320" cy="1285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086600" y="380880"/>
            <a:ext cx="1625760" cy="673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38080" y="1981080"/>
            <a:ext cx="609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572000" y="2405160"/>
            <a:ext cx="4648320" cy="3386160"/>
            <a:chOff x="4572000" y="2405160"/>
            <a:chExt cx="4648320" cy="3386160"/>
          </a:xfrm>
        </p:grpSpPr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4572000" y="2405160"/>
              <a:ext cx="4575240" cy="33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648320" y="392904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ffffff"/>
                  </a:solidFill>
                  <a:latin typeface="Tahoma"/>
                </a:rPr>
                <a:t>Mercúr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080" y="392904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ffffff"/>
                  </a:solidFill>
                  <a:latin typeface="Tahoma"/>
                </a:rPr>
                <a:t>Vén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34320" y="392904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ffffff"/>
                  </a:solidFill>
                  <a:latin typeface="Tahoma"/>
                </a:rPr>
                <a:t>Ter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01000" y="392904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ffffff"/>
                  </a:solidFill>
                  <a:latin typeface="Tahoma"/>
                </a:rPr>
                <a:t>Mar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0" y="438624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ffffff"/>
                  </a:solidFill>
                  <a:latin typeface="Tahoma"/>
                </a:rPr>
                <a:t>Lua (Terr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05520" y="497988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ffffff"/>
                  </a:solidFill>
                  <a:latin typeface="Tahoma"/>
                </a:rPr>
                <a:t>Io (Júpiter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438624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ffffff"/>
                  </a:solidFill>
                  <a:latin typeface="Tahoma"/>
                </a:rPr>
                <a:t>Europa (Júpiter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24480" y="4979880"/>
              <a:ext cx="129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ffffff"/>
                  </a:solidFill>
                  <a:latin typeface="Tahoma"/>
                </a:rPr>
                <a:t>Ganimede (Júpiter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10280" y="4233960"/>
              <a:ext cx="129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ffffff"/>
                  </a:solidFill>
                  <a:latin typeface="Tahoma"/>
                </a:rPr>
                <a:t>Calisto (Júpiter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24680" y="4995720"/>
              <a:ext cx="129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000" spc="-1" strike="noStrike">
                  <a:solidFill>
                    <a:srgbClr val="ffffff"/>
                  </a:solidFill>
                  <a:latin typeface="Tahoma"/>
                </a:rPr>
                <a:t>Titã (Saturn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4724280" y="2970360"/>
            <a:ext cx="4419720" cy="3278160"/>
            <a:chOff x="4724280" y="2970360"/>
            <a:chExt cx="4419720" cy="3278160"/>
          </a:xfrm>
        </p:grpSpPr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4724280" y="2970360"/>
              <a:ext cx="441972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410080" y="32688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200" spc="-1" strike="noStrike">
                  <a:solidFill>
                    <a:srgbClr val="303030"/>
                  </a:solidFill>
                  <a:latin typeface="Tahoma"/>
                </a:rPr>
                <a:t>Ter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67480" y="32641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200" spc="-1" strike="noStrike">
                  <a:solidFill>
                    <a:srgbClr val="303030"/>
                  </a:solidFill>
                  <a:latin typeface="Tahoma"/>
                </a:rPr>
                <a:t>Titã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7800" y="3848040"/>
              <a:ext cx="1371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000" spc="-1" strike="noStrike">
                  <a:solidFill>
                    <a:srgbClr val="303030"/>
                  </a:solidFill>
                  <a:latin typeface="Tahoma"/>
                </a:rPr>
                <a:t>Azoto (Nitrogéni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000" spc="-1" strike="noStrike">
                  <a:solidFill>
                    <a:srgbClr val="303030"/>
                  </a:solidFill>
                  <a:latin typeface="Tahoma"/>
                </a:rPr>
                <a:t>Oxigén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000" spc="-1" strike="noStrike">
                  <a:solidFill>
                    <a:srgbClr val="303030"/>
                  </a:solidFill>
                  <a:latin typeface="Tahoma"/>
                </a:rPr>
                <a:t>Arg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1320" y="4686480"/>
              <a:ext cx="76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000" spc="-1" strike="noStrike">
                  <a:solidFill>
                    <a:srgbClr val="303030"/>
                  </a:solidFill>
                  <a:latin typeface="Tahoma"/>
                </a:rPr>
                <a:t>Ozon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38880" y="3619440"/>
              <a:ext cx="1371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000" spc="-1" strike="noStrike">
                  <a:solidFill>
                    <a:srgbClr val="303030"/>
                  </a:solidFill>
                  <a:latin typeface="Tahoma"/>
                </a:rPr>
                <a:t>Azoto (Nitrogéni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000" spc="-1" strike="noStrike">
                  <a:solidFill>
                    <a:srgbClr val="303030"/>
                  </a:solidFill>
                  <a:latin typeface="Tahoma"/>
                </a:rPr>
                <a:t>Metan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000" spc="-1" strike="noStrike">
                  <a:solidFill>
                    <a:srgbClr val="303030"/>
                  </a:solidFill>
                  <a:latin typeface="Tahoma"/>
                </a:rPr>
                <a:t>Argon (?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72400" y="4229280"/>
              <a:ext cx="1371600" cy="9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000" spc="-1" strike="noStrike">
                  <a:solidFill>
                    <a:srgbClr val="303030"/>
                  </a:solidFill>
                  <a:latin typeface="Tahoma"/>
                </a:rPr>
                <a:t>Fina Camada de Nebli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000" spc="-1" strike="noStrike">
                  <a:solidFill>
                    <a:srgbClr val="303030"/>
                  </a:solidFill>
                  <a:latin typeface="Tahoma"/>
                </a:rPr>
                <a:t>Espessa Neblina Fotoquími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000" spc="-1" strike="noStrike">
                  <a:solidFill>
                    <a:srgbClr val="303030"/>
                  </a:solidFill>
                  <a:latin typeface="Tahoma"/>
                </a:rPr>
                <a:t>Chuva de Partícula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35760" y="5427720"/>
              <a:ext cx="762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000" spc="-1" strike="noStrike">
                  <a:solidFill>
                    <a:srgbClr val="303030"/>
                  </a:solidFill>
                  <a:latin typeface="Tahoma"/>
                </a:rPr>
                <a:t>Metan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982404"/>
                </a:solidFill>
                <a:latin typeface="Tahoma"/>
              </a:rPr>
              <a:t>Titã e a T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8534160" cy="763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1905120"/>
            <a:ext cx="91440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Apesar de o diâmetro ser de apenas 40% o da Terra, a sua atmosfera estende-se até uma altitude 10 vezes superior à da Terra.  A atmosfera da Titã compõe-se principalmente de azoto (90-97%) e metano (2-10%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841320" cy="128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7086600" y="380880"/>
            <a:ext cx="1625760" cy="673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28600" y="3124080"/>
            <a:ext cx="3962520" cy="30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A atmosfera da Terra compõe-se principalmente de azoto (78%) e de oxigénio (21%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Claro que a temperatura à superfície de Titã são uns enregelantes 95°K (-178°Celsius) comparada com os agradáveis 290K (17°Celsius) da Ter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82404"/>
                </a:solidFill>
                <a:latin typeface="Tahoma"/>
              </a:rPr>
              <a:t>Libertação da Sonda Huyge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97316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A sonda Huygens, da ESA, não possui jactos de propulsão a bordo. Por essa razão,tanto a nave Cassini, como a sonda serão colocadas numa rota de colisão com Titã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763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41320" cy="1285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7086600" y="380880"/>
            <a:ext cx="1625760" cy="6732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800600" y="2666880"/>
            <a:ext cx="4343400" cy="35146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28600" y="2819520"/>
            <a:ext cx="4419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A libertação da sonda está marcada para o dia 24 de Dezembro de 200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3 dias após a libertação da sonda, a nave Cassini efectuará uma manobra de deflexão orbital, retirando a nave da sua rota de colisão com Titã e colocando-a na trajectória correcta para a retransmissão dos dados da sonda para a Ter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A sonda continuará a sua viagem de 21 dias para Titã, chegando a esta lua de Saturno no dia 14 de Janeiro de 200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982404"/>
                </a:solidFill>
                <a:latin typeface="Tahoma"/>
              </a:rPr>
              <a:t>A descida da sonda para Tit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1752480"/>
            <a:ext cx="8534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99"/>
                </a:solidFill>
                <a:latin typeface="Tahoma"/>
              </a:rPr>
              <a:t>Desc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À medida que a sonda entre na atmosfera de Titã e abrande a sua velocidade, soltar-se-à um pequeno pára-quedas que irá abrir o pára-quedas princip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41320" cy="1285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625760" cy="673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304920" y="1600200"/>
            <a:ext cx="8534160" cy="763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5742000" y="2819520"/>
            <a:ext cx="3325680" cy="34052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52280" y="2666880"/>
            <a:ext cx="5562720" cy="38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Quando o pára-quedas estiver completamente aberto, o escudo de desaceleração será abandonado e a sonda dirigir-se-à para a superfície de Titã. A cerca de 40 quilómetros da superfície o pára-quedas principal é também abandonado e um pára-quedas guia mais pequeno conduzirá a sonda ao longo desta última distâ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Duração da descida = 2,5 h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Velocidade de impacto = 25,2 km/h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(comparável a uma pára-quedista a aterrar com o pára-quedas aber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Tempo de recolha de dados à superfície = 30 min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3429000" y="1752480"/>
            <a:ext cx="5718240" cy="3733920"/>
            <a:chOff x="3429000" y="1752480"/>
            <a:chExt cx="5718240" cy="3733920"/>
          </a:xfrm>
        </p:grpSpPr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3429000" y="1752480"/>
              <a:ext cx="571824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4628160" y="2365560"/>
              <a:ext cx="331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600" spc="-1" strike="noStrike">
                  <a:solidFill>
                    <a:srgbClr val="303030"/>
                  </a:solidFill>
                  <a:latin typeface="Tahoma"/>
                </a:rPr>
                <a:t>Projecção de Mercator de Titã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982404"/>
                </a:solidFill>
                <a:latin typeface="Arial Unicode MS"/>
              </a:rPr>
              <a:t>Local de aterrag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8534160" cy="76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841320" cy="1285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7086600" y="380880"/>
            <a:ext cx="1625760" cy="673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0" y="1828800"/>
            <a:ext cx="28954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Enquanto a matemática nos permite achar a latitude do ponto de descida da sonda Huygens, não é possível identificar a longitude de uma forma tão precisa. Isto deve-se ao facto de não termos um bom conhecimento dos ventos predominantes em Titã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5562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Arial Unicode MS"/>
              </a:rPr>
              <a:t>Localização da aterragem: -10° latitude (±0.7°), 160° E longitude(±13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2404"/>
                </a:solidFill>
                <a:latin typeface="Tahoma"/>
              </a:rPr>
              <a:t>      </a:t>
            </a:r>
            <a:r>
              <a:rPr b="0" lang="pt-PT" sz="3400" spc="-1" strike="noStrike">
                <a:solidFill>
                  <a:srgbClr val="982404"/>
                </a:solidFill>
                <a:latin typeface="Tahoma"/>
              </a:rPr>
              <a:t>Porquê uma missão tão curta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190512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A temperatura à superfície de Titã é muito baixa (temperaturas à superfície da ordem dos 95 Kelvin, o equivalente a –178º Celsius, e não se espera que as baterias da sonda durem mais que umas duas horas nestas condiçõ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41320" cy="1285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8534160" cy="763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2895480" cy="23144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048120" y="2971800"/>
            <a:ext cx="5638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A sonda utilizará a nave Cassini como uma estação de retransmissão para a Terra. Todos os dados científicos recolhidos pela Huygens serão transmitidos directamente para a Cassini. Assim que a nave descer abaixo do horizonte alcançável pela Huygens, a nave e a sonda deixarão de poder comunicar entre si. Quando a Cassini voltar a sobrevoar Titã, terão passado muitos meses e os sistemas da sonda há muito que terão congel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7086600" y="228600"/>
            <a:ext cx="162576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982404"/>
                </a:solidFill>
                <a:latin typeface="Tahoma"/>
              </a:rPr>
              <a:t>O Desti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76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625760" cy="673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841320" cy="1285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1360" y="1851120"/>
            <a:ext cx="839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Saturno é conhecido pelo seu magnífico sistema de anéis. Mas o Sistema de Saturno é, para além disso, um ambiente único onde se combinam anéis, luas e o próprio plane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257800" y="3352680"/>
            <a:ext cx="3581280" cy="274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920" y="4800600"/>
            <a:ext cx="4724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Saturno emite 79% mais energia que a que recebe do So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Saturno recebe o equivalente a 1/90 da luz solar que a Terra receb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895480"/>
            <a:ext cx="48006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99"/>
                </a:solidFill>
                <a:latin typeface="Tahoma"/>
              </a:rPr>
              <a:t>Factos sobre Satur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Saturno é o segundo maior planeta do Sistema Sola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Titã, a sua maior lua, possui uma fina atmosfera rica em azo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982404"/>
                </a:solidFill>
                <a:latin typeface="Tahoma"/>
              </a:rPr>
              <a:t>Objectivos Científicos nos Ané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763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-156240" y="1676520"/>
            <a:ext cx="4205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Objectivos Científicos nos Ané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41320" cy="1285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086600" y="304920"/>
            <a:ext cx="1625760" cy="6728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4495680" y="2743200"/>
            <a:ext cx="4648320" cy="3444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6320" y="2743200"/>
            <a:ext cx="441936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b) Mapear a composição e a distribuição por tamanhos do material dos ané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c) Investigar a interligação entre os anéis e os satélites, incluindo os satélites interi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d) Determinar a distribuição da poeira e dos meteoróides na vizinhança dos ané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e) Estudar as interacções entre os anéis e a magnetosfera, a ionosfera e a atmosfera de Satu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280" y="205740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a) Estudar a configuração dos anéis e os processos dinâmicos (gravitacional, viscoso, erosivo e electromagnético) responsáveis pela estrutura dos ané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300" spc="-1" strike="noStrike">
                <a:solidFill>
                  <a:srgbClr val="982404"/>
                </a:solidFill>
                <a:latin typeface="Tahoma"/>
              </a:rPr>
              <a:t>Magníficos Anéis de Saturn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086600" y="380880"/>
            <a:ext cx="1625760" cy="673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41320" cy="1285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304920" y="1600200"/>
            <a:ext cx="8534160" cy="76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182880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Os anéis de Saturno são constituídos principalmente de silicatos (rochas) com grande teor em gelo de águ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962520"/>
            <a:ext cx="3733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99"/>
                </a:solidFill>
                <a:latin typeface="Tahoma"/>
              </a:rPr>
              <a:t>Sabi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Os tamanhos típicos das partículas dos anéis variam desde os micrómetros  (sensivelmente do tamanho das partículas que compõem o fumo dos cigarros) até blocos de gelo que ultrapassam as dezenas de met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3733920" y="2511360"/>
            <a:ext cx="5410080" cy="36608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2573280"/>
            <a:ext cx="358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Imagens dos anéis de Saturno obtidas em cores falsas mostram cores diferentes que ilustram algumas das possíveis variações na composição quím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982404"/>
                </a:solidFill>
                <a:latin typeface="Tahoma"/>
              </a:rPr>
              <a:t>Questões fundament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763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41320" cy="1285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7086600" y="380880"/>
            <a:ext cx="1625760" cy="6732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11320" y="2049480"/>
            <a:ext cx="62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A missão irá focar-se em quatro perguntas críti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4572000" y="2514600"/>
            <a:ext cx="4280040" cy="31845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28600" y="3048120"/>
            <a:ext cx="426708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Como se formaram os ané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Que idade têm os ané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Como se mantêm os ané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Quais são as dinâmicas e o relacionamento entre os anéis e Saturno, os seus satélites e os seus campos electromagnétic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982404"/>
                </a:solidFill>
                <a:latin typeface="Tahoma"/>
              </a:rPr>
              <a:t>Objectivos nos Satélites Gel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763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52280" y="1752480"/>
            <a:ext cx="8686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Objectivos nos satélites gel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a) Determinar as características gerais e o historial geológico dos satéli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b) Definir os mecanismos das modificações da crosta e da superfície, tanto externa como inter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41320" cy="1285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7086600" y="228600"/>
            <a:ext cx="1625760" cy="673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4800600" y="2743200"/>
            <a:ext cx="4343400" cy="3409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52280" y="2819520"/>
            <a:ext cx="4648320" cy="38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c) Investigar as composições e distribuições dos materiais de superfície, particularmente dos materiais escuros e ricos em compostos orgânicos e compostos voláteis condensados de baixo ponto de fusã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d) Constranger modelos da composição dos satélites e das suas estruturas inter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e) Investigar as interacções com a magnetosfera e com o sistema de anéis e hipotéticas injecções de gás na atmosf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982404"/>
                </a:solidFill>
                <a:latin typeface="Tahoma"/>
              </a:rPr>
              <a:t>Factos dos Satélites Gel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763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52280" y="1752480"/>
            <a:ext cx="8991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A expressão “satélites gelados” serve para separar Titã das restantes luas menores. Até 2000, conhecíamos 17 “satélites gelados de Saturno”. Hoje são reconhecidos 2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Os 17 originais, nomeados a partir de figuras das mitologias grega e roman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Os 12 mais recentes que possu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nomes provisó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4098960"/>
            <a:ext cx="464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99"/>
                </a:solidFill>
                <a:latin typeface="Tahoma"/>
              </a:rPr>
              <a:t>Sab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16 dos satélites de Saturno rodam sincronizadamente (mostram sempre a mesma face para Saturno, tal como a nossa Lu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41320" cy="12859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7086600" y="380880"/>
            <a:ext cx="1625760" cy="6732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5105520" y="3048120"/>
            <a:ext cx="37684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982404"/>
                </a:solidFill>
                <a:latin typeface="Tahoma"/>
              </a:rPr>
              <a:t>Destaques dos Satélites Gel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763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41320" cy="12859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457200" y="5334120"/>
            <a:ext cx="1371600" cy="9903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057400" y="5410080"/>
            <a:ext cx="640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Mimas possui uma enorme cratera num dos lados que quase desintegrou o satéli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457200" y="3809880"/>
            <a:ext cx="1359000" cy="1016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457200" y="2133720"/>
            <a:ext cx="1397160" cy="1042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133720" y="2286000"/>
            <a:ext cx="678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Jápeto - com um dos hemisférios extremamente reflectivo e o outro tão escuro como veludo negro, este satélite tem uma personalidade divid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388620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Encelado é muito brilhante e poderá ser uma fonte de material para o anel E, através de erupções de águ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6"/>
          <a:stretch/>
        </p:blipFill>
        <p:spPr>
          <a:xfrm>
            <a:off x="7086600" y="304920"/>
            <a:ext cx="162576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982404"/>
                </a:solidFill>
                <a:latin typeface="Tahoma"/>
              </a:rPr>
              <a:t>Mais Satélites Ún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763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41320" cy="12859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133720" y="2057400"/>
            <a:ext cx="6781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Hiperião possui uma forma estranha (como um hambúrguer) e roda caoticamente devido à influência gravitacional de Titã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O pequeno Pã orbita no interior do anel A e ajuda a limpar a Divisão de Enck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7086600" y="380880"/>
            <a:ext cx="1625760" cy="673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533520" y="4648320"/>
            <a:ext cx="1371600" cy="9525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057400" y="4648320"/>
            <a:ext cx="6705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Febe leva 550 dias a orbitar o plane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Além disso possui uma órbita retrógrada, o que significa que viaja em sentido contrário ao dos seus vizinh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533520" y="1981080"/>
            <a:ext cx="1269720" cy="9525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6"/>
          <a:stretch/>
        </p:blipFill>
        <p:spPr>
          <a:xfrm>
            <a:off x="609480" y="3200400"/>
            <a:ext cx="118440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982404"/>
                </a:solidFill>
                <a:latin typeface="Tahoma"/>
              </a:rPr>
              <a:t>Satélites Lagrangia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41320" cy="1285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625760" cy="6732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304920" y="1600200"/>
            <a:ext cx="8534160" cy="763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04920" y="1973160"/>
            <a:ext cx="8610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Os satélites Lagrangianos são pares de luas que partilham uma mesma órbita. Um satélite pequeno orbita no ponto Langrangiano de um satélite ma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Os pontos Lagrangianos são localizações no interior da órbita de um objecto onde um corpo de menor massa se pode mover numa órbita idêntica e estáv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Os pontos Lagrangianos localizam-se 60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à frente ou atrás na órbita do satélite ma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4724280"/>
            <a:ext cx="579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99"/>
                </a:solidFill>
                <a:latin typeface="Tahoma"/>
              </a:rPr>
              <a:t>Quais são os satélites Lagrangianos de Saturn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Helena é o satélite Lagrangiano de Dione, Calipso e Telesto são satélites Lagrangianos de Tét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6172200" y="3757680"/>
            <a:ext cx="2463840" cy="2033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7304040" y="5867280"/>
            <a:ext cx="7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Té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982404"/>
                </a:solidFill>
                <a:latin typeface="Tahoma"/>
              </a:rPr>
              <a:t>Satélites Past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18208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Os Satélites Pastores ajudam a manter o material dos anéis, ao definirem os limites dos anéis com os quais orbit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763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625760" cy="6732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841320" cy="12859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52280" y="4249800"/>
            <a:ext cx="40388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99"/>
                </a:solidFill>
                <a:latin typeface="Tahoma"/>
              </a:rPr>
              <a:t>Sab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16 das luas de Saturno, incluindo Titã e Jápeto, rodam  sincronizadamente (mostram sempre a mesma face para Saturno, tal como a nossa Lu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4270320" y="2514600"/>
            <a:ext cx="4873680" cy="36133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04920" y="2514600"/>
            <a:ext cx="388620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Atlas situa-se a várias centenas de quilómetros do limite exterior do anel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Prometeu e Pandora orbitam em lados opostos do anel 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982404"/>
                </a:solidFill>
                <a:latin typeface="Tahoma"/>
              </a:rPr>
              <a:t>Satélites Co-orbit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763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625760" cy="673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841320" cy="12859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28600" y="495288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99"/>
                </a:solidFill>
                <a:latin typeface="Tahoma"/>
              </a:rPr>
              <a:t>Sab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Uma vez que Epimeteu orbita a uma velocidade ligeiramente maior que a de Jano, Epimeteu ultrapassa Jano nas suas órbitas uma vez a cada quatro a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198108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Jano e Epimeteu movem-se em órbitas quase idênticas a cerca de dois raios e meio de Saturno. Isto significa 151.000 quilóme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São chamados de satélites “co-orbitais” devido a este fa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6781680" y="32767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5"/>
          <a:stretch/>
        </p:blipFill>
        <p:spPr>
          <a:xfrm>
            <a:off x="380880" y="3429000"/>
            <a:ext cx="1384560" cy="13842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904400" y="43434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J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14960" y="419112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Epimet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428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982404"/>
                </a:solidFill>
                <a:latin typeface="Tahoma"/>
              </a:rPr>
              <a:t>Comparação entre Saturno e a Ter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76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238880" y="304920"/>
            <a:ext cx="1625760" cy="672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47680" y="228600"/>
            <a:ext cx="841320" cy="1285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41360" y="1851120"/>
            <a:ext cx="8321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Se colocássemos Saturno e os seus principais anéis (excluindo o difuso anel E)  entre a Terra e a Lua, mal existiria espaço para o encaixarm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Distância da Terra à Lua = 384.000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Diâmetro de Saturno com o seu sistema de anéis = 340.000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334120" y="3581280"/>
            <a:ext cx="34290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982404"/>
                </a:solidFill>
                <a:latin typeface="Tahoma"/>
              </a:rPr>
              <a:t>Objectivos na Magnetosf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763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04920" y="1981080"/>
            <a:ext cx="77724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Objectivos na Magnetosfe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a) Determinar a configuração do campo magnético quase simétrico axialmente e a sua relação com a modulação da Radiação Quilométrica de Saturno (SK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41320" cy="12859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7086600" y="380880"/>
            <a:ext cx="1625760" cy="6732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5715000" y="3581280"/>
            <a:ext cx="3032280" cy="23860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04920" y="3429000"/>
            <a:ext cx="502920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b) Determinar os sistemas de correntes, composição, fontes e decaimentos de partículas da magnetosfera electricamente carregad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c)   Investigar as interacções onda-partícula e as dinâmicas da magnetosfera no lado diurno bem como a magnetocauda de Saturno e as suas interacções com o Vento Solar, os satélites e os ané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982404"/>
                </a:solidFill>
                <a:latin typeface="Tahoma"/>
              </a:rPr>
              <a:t>Factos da Magnetosf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763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62080" y="1973160"/>
            <a:ext cx="780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Os campos magnéticos, tais como os da Terra e de Saturno, 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aproximados por um dipolo (uma estrutura simples com 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pólo norte e um pólo sul, tal como um íman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0" y="3352680"/>
            <a:ext cx="655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Não existe um desvio mensurável entre o dipolo magnético e os eixos de rotação de Saturno. Este facto é único no Sistema Solar (por comparação, o campo magnético da Terra está desviado do eixo de rotação em 11.4°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280" y="50292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99"/>
                </a:solidFill>
                <a:latin typeface="Tahoma"/>
              </a:rPr>
              <a:t>O que é uma magnetosfer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Saturno gera um campo magnético que escuda o planeta, os seus anéis e as suas luas do Vento Solar. Este escudo chama-se “magnetosfera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41320" cy="12859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7086600" y="1828800"/>
            <a:ext cx="1574640" cy="16257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533520" y="3276720"/>
            <a:ext cx="1625400" cy="14731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5"/>
          <a:stretch/>
        </p:blipFill>
        <p:spPr>
          <a:xfrm>
            <a:off x="7086600" y="380880"/>
            <a:ext cx="162576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0" y="3276720"/>
            <a:ext cx="4267080" cy="2841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982404"/>
                </a:solidFill>
                <a:latin typeface="Tahoma"/>
              </a:rPr>
              <a:t>Momentos altos da viag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8534160" cy="76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0880" y="280368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Alguns dos excitantes acontecimentos que acontecerão à chegada a Satur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360" y="1851120"/>
            <a:ext cx="832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A Cassini orbitará o Sistema de Saturno durante 4 anos. Durante esse tempo, a nave efectuará 75 órbitas sobre o planeta e 45 sobrevoos de Titã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841320" cy="128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7086600" y="380880"/>
            <a:ext cx="1625760" cy="673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4920" y="3352680"/>
            <a:ext cx="40384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Encontro com Febe - 11 de Junho de 2004 (máxima aproximação de 2.000 k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Inserção na órbita de Saturno - 1 de Julho de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Libertação da Sonda Huygens, da ESA - 25 de Dezembro de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Missão da Sonda Huygens, da ESA - 14 de Janeiro de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3276720"/>
            <a:ext cx="4267080" cy="28400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982404"/>
                </a:solidFill>
                <a:latin typeface="Tahoma"/>
              </a:rPr>
              <a:t>Inserção na Órbita de Satur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8534160" cy="76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086600" y="380880"/>
            <a:ext cx="1625760" cy="673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841320" cy="1285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0880" y="1752480"/>
            <a:ext cx="8382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Data: 1 de Julho de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Aproximação efectuada por debaixo do plano dos anéis. Cruzamento do plano dos anéis em sentido ascendente a 158,500 km de Saturno 1 hora e 52 minutos antes do periastro (máxima aproximaçã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A Cassini atravessará o plano dos anéis entre os anéis F e 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396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Ignição dos retrofoguetes: 01:12 UTC (2:12 de Lisboa a 30 de Junh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Duração da utilização dos retrofoguetes = 97 min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Fim da utilização dos retrofoguetes: 03:03 UTC (4:03 de Lisboa a 30 de Junh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99"/>
                </a:solidFill>
                <a:latin typeface="Tahoma"/>
              </a:rPr>
              <a:t>Variação de velocidade = 632 m/segundo (2.275,2 km/ho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982404"/>
                </a:solidFill>
                <a:latin typeface="Tahoma"/>
              </a:rPr>
              <a:t>Em Órbita de Satur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76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1905120"/>
            <a:ext cx="83059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Durante a sua visita de 4 anos, a Cassini efectuará 75 órbitas em torno de Saturno, utilizando o campo gravitacional de Titã para mudar a órbita da na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41320" cy="1285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7086600" y="380880"/>
            <a:ext cx="1625760" cy="673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600" y="3032280"/>
            <a:ext cx="4952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A duração das órbitas variará entre 7 e 118 d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A distância orbital da Cassini em relação a Saturno variará de 156.858 km a 953.214 k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A órbita da nave irá variar a sua orientação de equatorial até uma inclinação de aproximadamente 75°. Isto permitirá que os cientistas estudem as regiões polares de Satur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329080" y="3276720"/>
            <a:ext cx="3814920" cy="2819160"/>
            <a:chOff x="5329080" y="3276720"/>
            <a:chExt cx="3814920" cy="2819160"/>
          </a:xfrm>
        </p:grpSpPr>
        <p:pic>
          <p:nvPicPr>
            <p:cNvPr id="87" name="" descr=""/>
            <p:cNvPicPr/>
            <p:nvPr/>
          </p:nvPicPr>
          <p:blipFill>
            <a:blip r:embed="rId4"/>
            <a:stretch/>
          </p:blipFill>
          <p:spPr>
            <a:xfrm>
              <a:off x="5329080" y="3276720"/>
              <a:ext cx="3814920" cy="28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 txBox="1"/>
            <p:nvPr/>
          </p:nvSpPr>
          <p:spPr>
            <a:xfrm>
              <a:off x="5429160" y="3395520"/>
              <a:ext cx="3409920" cy="2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4dffff"/>
                  </a:solidFill>
                  <a:latin typeface="Arial Black"/>
                </a:rPr>
                <a:t>Trajectória no Sistema Saturniano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ffff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982404"/>
                </a:solidFill>
                <a:latin typeface="Tahoma"/>
              </a:rPr>
              <a:t>Objectivos Cientí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76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4320" y="1981080"/>
            <a:ext cx="8395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Os 5 grupos de objectivos científicos da missão Cassini-Huygens sã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41320" cy="1285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80880" y="3809880"/>
            <a:ext cx="1270080" cy="927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23680" y="4267080"/>
            <a:ext cx="3709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Os extensos anéis de Satu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0880" y="2666880"/>
            <a:ext cx="1270080" cy="952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73360" y="2895480"/>
            <a:ext cx="26715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Tahoma"/>
              </a:rPr>
              <a:t>Saturno - o planeta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Tahoma"/>
              </a:rPr>
              <a:t>a sua atmosf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380880" y="5029200"/>
            <a:ext cx="1295640" cy="990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820520" y="5410080"/>
            <a:ext cx="623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Tit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5334120" y="3124080"/>
            <a:ext cx="1218960" cy="1036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779160" y="3809880"/>
            <a:ext cx="185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Magnetosf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5334120" y="4495680"/>
            <a:ext cx="1269720" cy="952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790320" y="5029200"/>
            <a:ext cx="2194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Satélites gel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7086600" y="380880"/>
            <a:ext cx="162576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982404"/>
                </a:solidFill>
                <a:latin typeface="Tahoma"/>
              </a:rPr>
              <a:t>Objectivos Científicos em Satur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320" y="1828800"/>
            <a:ext cx="8762760" cy="44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just">
              <a:lnSpc>
                <a:spcPct val="100000"/>
              </a:lnSpc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pt-PT" sz="1700" spc="-1" strike="noStrike">
                <a:solidFill>
                  <a:srgbClr val="000099"/>
                </a:solidFill>
                <a:latin typeface="Tahoma"/>
              </a:rPr>
              <a:t>Objectivos Científicos em Saturno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pt-PT" sz="1700" spc="-1" strike="noStrike">
                <a:solidFill>
                  <a:srgbClr val="000099"/>
                </a:solidFill>
                <a:latin typeface="Tahoma"/>
              </a:rPr>
              <a:t>a) Determinar as temperaturas, propriedades das nuvens, e composição da atmosfera de Saturno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pt-PT" sz="1700" spc="-1" strike="noStrike">
                <a:solidFill>
                  <a:srgbClr val="000099"/>
                </a:solidFill>
                <a:latin typeface="Tahoma"/>
              </a:rPr>
              <a:t>b) Medir o vento global, incluindo as componentes de onda e de turbilhão; observar a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pt-PT" sz="17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pt-PT" sz="1700" spc="-1" strike="noStrike">
                <a:solidFill>
                  <a:srgbClr val="000099"/>
                </a:solidFill>
                <a:latin typeface="Tahoma"/>
              </a:rPr>
              <a:t>características e os processos sinópticos das nuvens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pt-PT" sz="1700" spc="-1" strike="noStrike">
                <a:solidFill>
                  <a:srgbClr val="000099"/>
                </a:solidFill>
                <a:latin typeface="Tahoma"/>
              </a:rPr>
              <a:t>c) Inferir a estrutura interna e a rotação da baix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pt-PT" sz="17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pt-PT" sz="1700" spc="-1" strike="noStrike">
                <a:solidFill>
                  <a:srgbClr val="000099"/>
                </a:solidFill>
                <a:latin typeface="Tahoma"/>
              </a:rPr>
              <a:t>atmosfera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pt-PT" sz="1700" spc="-1" strike="noStrike">
                <a:solidFill>
                  <a:srgbClr val="000099"/>
                </a:solidFill>
                <a:latin typeface="Tahoma"/>
              </a:rPr>
              <a:t>d) Estudar as variações diurnas e o contro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pt-PT" sz="17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pt-PT" sz="1700" spc="-1" strike="noStrike">
                <a:solidFill>
                  <a:srgbClr val="000099"/>
                </a:solidFill>
                <a:latin typeface="Tahoma"/>
              </a:rPr>
              <a:t>magnético da ionosfera de Saturno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pt-PT" sz="1700" spc="-1" strike="noStrike">
                <a:solidFill>
                  <a:srgbClr val="000099"/>
                </a:solidFill>
                <a:latin typeface="Tahoma"/>
              </a:rPr>
              <a:t>e) Fornecer constrangimentos observacionai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pt-PT" sz="17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pt-PT" sz="1700" spc="-1" strike="noStrike">
                <a:solidFill>
                  <a:srgbClr val="000099"/>
                </a:solidFill>
                <a:latin typeface="Tahoma"/>
              </a:rPr>
              <a:t>(composição gasosa, proporção de isótopos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pt-PT" sz="17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0" lang="pt-PT" sz="1700" spc="-1" strike="noStrike">
                <a:solidFill>
                  <a:srgbClr val="000099"/>
                </a:solidFill>
                <a:latin typeface="Tahoma"/>
              </a:rPr>
              <a:t>fluxos de calor) para cenários de formação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pt-PT" sz="17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0" lang="pt-PT" sz="1700" spc="-1" strike="noStrike">
                <a:solidFill>
                  <a:srgbClr val="000099"/>
                </a:solidFill>
                <a:latin typeface="Tahoma"/>
              </a:rPr>
              <a:t>e evolução de Saturno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pt-PT" sz="1700" spc="-1" strike="noStrike">
                <a:solidFill>
                  <a:srgbClr val="000099"/>
                </a:solidFill>
                <a:latin typeface="Tahoma"/>
              </a:rPr>
              <a:t>f) Investigar as fontes e a morfologia das trovoada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pt-PT" sz="17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pt-PT" sz="1700" spc="-1" strike="noStrike">
                <a:solidFill>
                  <a:srgbClr val="000099"/>
                </a:solidFill>
                <a:latin typeface="Tahoma"/>
              </a:rPr>
              <a:t>de Saturno (Descargas Electrostáticas e trovoada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0" lang="pt-PT" sz="17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pt-PT" sz="1700" spc="-1" strike="noStrike">
                <a:solidFill>
                  <a:srgbClr val="000099"/>
                </a:solidFill>
                <a:latin typeface="Tahoma"/>
              </a:rPr>
              <a:t>sibilantes de Saturno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76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41320" cy="1285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086600" y="380880"/>
            <a:ext cx="1625760" cy="673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257800" y="3274920"/>
            <a:ext cx="388620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982404"/>
                </a:solidFill>
                <a:latin typeface="Tahoma"/>
              </a:rPr>
              <a:t>Factos Físicos de Satur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76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0880" y="1981080"/>
            <a:ext cx="84582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Saturno é o 6º planeta a contar do Sol, orbitando-o a uma distância média de 9,54 Unidades Astronómicas ou UA (1.429,4 milhões de quilómetr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Saturno recebe o equivalente a 1/90 da luz solar que a Terra receb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3505320"/>
            <a:ext cx="487692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Factos físicos de Satur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c0128"/>
                </a:solidFill>
                <a:latin typeface="Tahoma"/>
              </a:rPr>
              <a:t>Diâmetro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 = 120.660 km -  comparar com o diâmetro da Terra (12.756 k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c0128"/>
                </a:solidFill>
                <a:latin typeface="Tahoma"/>
              </a:rPr>
              <a:t>Massa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 = 569x10</a:t>
            </a:r>
            <a:r>
              <a:rPr b="0" lang="pt-PT" sz="2000" spc="-1" strike="noStrike" baseline="30000">
                <a:solidFill>
                  <a:srgbClr val="000099"/>
                </a:solidFill>
                <a:latin typeface="Tahoma"/>
              </a:rPr>
              <a:t>24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 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(95 vezes maior que a massa da Ter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c0128"/>
                </a:solidFill>
                <a:latin typeface="Tahoma"/>
              </a:rPr>
              <a:t>Período de Rotação</a:t>
            </a:r>
            <a:r>
              <a:rPr b="0" lang="pt-PT" sz="2000" spc="-1" strike="noStrike">
                <a:solidFill>
                  <a:srgbClr val="000099"/>
                </a:solidFill>
                <a:latin typeface="Tahoma"/>
              </a:rPr>
              <a:t> = 10 horas e 40 min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257800" y="3352680"/>
            <a:ext cx="3581280" cy="2740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841320" cy="12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7086600" y="380880"/>
            <a:ext cx="162576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3T15:24:08Z</dcterms:created>
  <dc:creator>JPL</dc:creator>
  <dc:description/>
  <dc:language>en-US</dc:language>
  <cp:lastModifiedBy>.</cp:lastModifiedBy>
  <cp:lastPrinted>2003-01-30T17:15:29Z</cp:lastPrinted>
  <dcterms:modified xsi:type="dcterms:W3CDTF">2004-02-27T20:01:46Z</dcterms:modified>
  <cp:revision>277</cp:revision>
  <dc:subject/>
  <dc:title>Cassini’s Partners</dc:title>
</cp:coreProperties>
</file>